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822E0-ACDA-4EA9-BF0C-660B7344A9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281568-8E17-4C8A-94C2-A9D6041757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6CDC9-7D42-4D4D-8E06-437712846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8D6921-2F6A-47BD-8623-AE2D658FB4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B2B07B-2552-4F2D-B7B3-ACA9219006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63FD8-10F7-4B33-9D35-084DF05DE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80D04-B81A-4326-8C1A-90098CC09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C22D9-0624-4EFA-9834-ACCEC1808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FD21A-892A-4FF9-A40F-E0829C158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2399E0-493D-45B3-8BF8-B642A8890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8FDF3-2D2F-45CD-AFAE-45BC7C871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892C4-C97C-440C-898A-3E4E9FF2A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7ADA4-19F3-4AF3-888A-4DC9D6CC64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9453C-D1F8-4A68-A576-12745BE44B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6"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67"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68"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sp>
        <p:nvSpPr>
          <p:cNvPr id="69"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0"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1"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2" name=""/>
          <p:cNvSpPr/>
          <p:nvPr/>
        </p:nvSpPr>
        <p:spPr>
          <a:xfrm>
            <a:off x="4267080" y="4572000"/>
            <a:ext cx="213372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73"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4"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75"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76"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638680" y="6248520"/>
            <a:ext cx="990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
          <p:cNvCxnSpPr>
            <a:stCxn id="73" idx="2"/>
            <a:endCxn id="84" idx="1"/>
          </p:cNvCxnSpPr>
          <p:nvPr/>
        </p:nvCxnSpPr>
        <p:spPr>
          <a:xfrm flipH="1" flipV="1" rot="10800000">
            <a:off x="684720" y="2818080"/>
            <a:ext cx="686520" cy="2553120"/>
          </a:xfrm>
          <a:prstGeom prst="bentConnector3">
            <a:avLst>
              <a:gd name="adj1" fmla="val -33315"/>
            </a:avLst>
          </a:prstGeom>
          <a:ln w="9360">
            <a:solidFill>
              <a:srgbClr val="000000"/>
            </a:solidFill>
            <a:miter/>
            <a:tailEnd len="med" type="triangle" w="med"/>
          </a:ln>
        </p:spPr>
      </p:cxnSp>
      <p:cxnSp>
        <p:nvCxnSpPr>
          <p:cNvPr id="85" name=""/>
          <p:cNvCxnSpPr>
            <a:stCxn id="74" idx="1"/>
            <a:endCxn id="73"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86"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87"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
        <p:nvSpPr>
          <p:cNvPr id="84" name=""/>
          <p:cNvSpPr/>
          <p:nvPr/>
        </p:nvSpPr>
        <p:spPr>
          <a:xfrm>
            <a:off x="1371600" y="5029200"/>
            <a:ext cx="4191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88" name=""/>
          <p:cNvSpPr/>
          <p:nvPr/>
        </p:nvSpPr>
        <p:spPr>
          <a:xfrm>
            <a:off x="1371600" y="5867280"/>
            <a:ext cx="4267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Charles Crouch</cp:lastModifiedBy>
  <dcterms:modified xsi:type="dcterms:W3CDTF">2005-04-14T14:21:23Z</dcterms:modified>
  <cp:revision>45</cp:revision>
  <dc:subject/>
  <dc:title>JBN Admin</dc:title>
</cp:coreProperties>
</file>